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602-CE80-43F1-92CE-10566AD5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88C-47FF-46D0-B963-9484740C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4A8-290C-4561-A52E-39571C8B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526-107A-4559-ACF1-33629C90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A4D-17AD-4180-A71F-92936DE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5F7-DC41-4702-ADB3-0BDE181B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A20-5A68-4D20-B2CB-C345AAE4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F00-4DE1-4959-8A0A-B9BA44F5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445C-6A62-454A-A5A9-AF67D372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2EF-A450-4847-B1FF-FEE3E65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DC2-B8A6-4451-BA93-80911E4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716-313F-4777-A35D-07A6607A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03C6-3C03-4C71-8A73-ADA8AB59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ns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mânt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ada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22-30 n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tuație statistic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26920" y="1557360"/>
          <a:ext cx="7910640" cy="4114800"/>
        </p:xfrm>
        <a:graphic>
          <a:graphicData uri="http://schemas.openxmlformats.org/drawingml/2006/table">
            <a:tbl>
              <a:tblPr/>
              <a:tblGrid>
                <a:gridCol w="2747880"/>
                <a:gridCol w="2581560"/>
                <a:gridCol w="25812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âr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baț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 35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-65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te 65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5T21:14:27Z</dcterms:modified>
  <cp:revision>6</cp:revision>
  <dc:subject/>
  <dc:title>Curs valutar</dc:title>
</cp:coreProperties>
</file>